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AB7-7B1D-49BF-A01F-4C18E5AE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F56-559F-4035-BEB0-7139CB3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635-37C0-4921-883F-87964D37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764-7C0B-49D5-81F3-AB710DDF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D9E8-B7A2-42CE-B094-00E7454D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FC8C-7EE3-4726-9A32-F5B0269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D6E1-60F7-45A3-BA67-F8EBA7D7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73CA-DB43-4963-B924-079891F6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2059-0816-42C4-A440-1A7ED450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5EBE-9F30-46F8-9A9A-2780CE6D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559D-3399-4E1F-A4B5-313E7589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ADD-5B26-4A75-9A04-50D7C53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912-3361-4AD2-A20D-C6F445C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1DFF-39F1-4030-AF25-1EE0635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AD4A-DC67-4C2B-8F05-111DDB3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A7C7-8BDA-4BDE-B9FA-8A74FF07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925D-F493-49E3-9D87-99F9C4FB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A354-464D-4EC0-BE88-C2925769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DFC7-2799-4305-B5AE-63FD7655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4CFC-316C-459A-AA4A-0145832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C068-864A-450E-B092-BE73AF49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F0C7-F06B-411C-8DB8-C2F94AA6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08B-3015-405D-AF33-E6C434F9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C9CD-B233-4F52-9109-8B1C198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4BFE-D0D7-4F73-9BE4-6BBA1001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A55D3-DE4A-4BD4-B300-2386C61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77B6-7444-4FB2-A498-99E113F0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FEC9-FB81-433C-9B71-9D0A12D4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AEC5-A665-49C9-83B5-49D5303E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5BCB-A321-40E0-8C5B-D62FB0AC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75EC-F768-4191-BCCA-BE94C6ED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EB46-28EB-4DEF-B91A-7DFCCA9B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8863-498B-4227-875F-15D16B20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F78-C62F-437F-A510-1A73A174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95AE3-8093-4F60-B83D-D45D72A2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B44E-4F9F-4D92-BDBF-367496A8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7CD8-6E71-4708-8EE2-234131AD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EB12-960B-47B0-AAFD-A5C4CA28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2079-FF83-4D9E-9C17-9BDB537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3BF7-4565-4B03-9A12-317DB2D5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492C-7C7F-4B8C-931C-C14C3DF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CA45A-1F7A-4ECB-A4BB-B8EC0655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C008-4C92-4227-A190-22E132FC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BB339-CB38-43E6-BB39-A1434D82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899-CFAE-4D4A-B395-2D832B2F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7516F-D3EE-44E6-8286-7B4B3C9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FA1FE-09E2-435C-838D-F1F46441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3AAB5-078A-4B29-8923-C87E25D2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4D64-C814-4A08-B54D-76D7104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2FEA2-EF37-470F-9596-00A800F9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ED0E2-498D-497A-8FD2-BA42C719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25472-9FA2-4A5B-BD80-1FD2D9B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7D5C6-15F0-42C8-AEBA-AB5203F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6A5B-5756-4E9F-B906-8373D941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17F9-1967-47C4-960B-3282374A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253-27FE-459A-914B-A7BE75D1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1EDE-E32F-4674-AFB8-FE0BF910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6F2A9-93AB-4986-9A05-CBDBB526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5E37A-C054-483C-AF7C-772253BC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ACED8-2860-4BAE-A5D2-602F9D3C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5851B-4026-4B02-B81A-1CD0DC89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40489-6C62-406C-A59E-216F6A20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081A0-5174-4001-BC21-4914152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0115A-DE09-4960-88AB-6C471EC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479C8-E6E3-4502-8484-027CBFA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474F5-F7B7-4C3F-9B47-0071085C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77F-A9B3-4495-897D-0F74122A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6939A-3E37-4B8D-8E52-81887B2E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1FFEE-A482-4452-A479-DB9B1041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1B295-41C3-4BC5-B21E-4A5B08CF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C0306-EBA3-49B1-86CA-C3320B3F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301D5-DA21-45D5-B441-8A97D363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B9B25-44FD-43BD-8444-052EB88B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49AC4-620C-4352-8DD8-30ACCD0B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8E4D8-F4D7-4BF7-9CB8-6098F3B0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B3215-4488-4A8E-83FC-78667B1C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F76A8-AB7E-4B35-872A-48061AE3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275-8F35-42D0-976C-24C491D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A8C80-81C4-461A-9446-D8355071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6F60-A4AD-44D9-A0D3-C6A8A7B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C1E8C-AA8E-4340-AD56-41AD0A61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29299-F31F-4D82-A65F-FDC34513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A6E1E-8D8B-4E03-BA6A-906B5321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4D0BC-3BD9-4A0E-A818-EA49384B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0FA95-A39C-434F-9AFE-07537ECE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41F12-7C52-42BD-963A-4FBDB4D8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87AB4-B5AD-40F4-B27B-07E74E8E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CF1D5-E233-44A5-9020-31956B7E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515-3D41-4BE8-9C94-49F2F5BF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35D61-7E47-4E76-BEC6-26D81450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999BE-B901-470D-A1FC-B6BE3E99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4BF30-1D90-4F13-9227-23028D1B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D5F35-F6ED-4963-81F1-1B00E2DB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A3F88-40BA-42E4-92EA-19EA06BB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FBEFB-D6FB-42DD-AD5C-6181EADF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0E432-9E28-48A8-A554-7BEEE314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04A0-3108-44A9-9A01-47DC17F95CA8}" type="slidenum"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7f8fa9">
              <a:alpha val="70000"/>
            </a:srgbClr>
          </a:solidFill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234f7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F4BD-40F2-43B9-AF77-E0594663741D}" type="slidenum">
              <a:rPr b="0" lang="ru-RU" sz="2800" spc="-1" strike="noStrike">
                <a:solidFill>
                  <a:srgbClr val="234f77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61F4-763D-4E49-A1AA-26FAE5791100}" type="slidenum"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8FE4-3179-4CCE-AD63-7C6B1A0BA540}" type="slidenum"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3EF1-C990-4B43-AE89-792FD0A1E4A6}" type="slidenum"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C857-E74D-491C-A45A-838775FB3C6B}" type="slidenum"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D0DD-7E49-49DA-9975-62E1658E455F}" type="slidenum"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1.2.1 ПРОЦЕССОР</a:t>
            </a:r>
            <a:endParaRPr b="0" lang="en-US" sz="2100" spc="-1" strike="noStrike">
              <a:solidFill>
                <a:srgbClr val="242852"/>
              </a:solidFill>
              <a:latin typeface="Century Gothic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4f77"/>
                </a:solidFill>
                <a:latin typeface="Book Antiqua"/>
              </a:rPr>
              <a:t>ГЛАВА 1. АРХИТЕКТУРА КОМПЬЮТЕРА И ЗАЩИТА ИНФОРМАЦИИ.</a:t>
            </a:r>
            <a:endParaRPr b="0" lang="en-US" sz="2400" spc="-1" strike="noStrike">
              <a:solidFill>
                <a:srgbClr val="3477b2"/>
              </a:solidFill>
              <a:latin typeface="Book Antiqu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1160" y="-46080"/>
          <a:ext cx="9132840" cy="730440"/>
        </p:xfrm>
        <a:graphic>
          <a:graphicData uri="http://schemas.openxmlformats.org/drawingml/2006/table">
            <a:tbl>
              <a:tblPr/>
              <a:tblGrid>
                <a:gridCol w="913284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  <p:pic>
        <p:nvPicPr>
          <p:cNvPr id="381" name="Рисунок 1" descr="Описание: C:\WINDOWS\Temp\FineReader10\media\image1.png"/>
          <p:cNvPicPr/>
          <p:nvPr/>
        </p:nvPicPr>
        <p:blipFill>
          <a:blip r:embed="rId2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4938840" y="3837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Прямоугольник 7"/>
          <p:cNvSpPr/>
          <p:nvPr/>
        </p:nvSpPr>
        <p:spPr>
          <a:xfrm>
            <a:off x="638280" y="0"/>
            <a:ext cx="83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. Д. Угринович  «ИНФОРМАТИКА и ИКТ для 10 класса» -ПРОФИЛЬНЫЙ , 3-е издание 2008 и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7756560" y="4437000"/>
            <a:ext cx="89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0000"/>
                </a:solidFill>
                <a:latin typeface="Century Gothic"/>
              </a:rPr>
              <a:t>Шакуров ЗЗ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0000"/>
                </a:solidFill>
                <a:latin typeface="Century Gothic"/>
              </a:rPr>
              <a:t>Марий Эл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0000"/>
                </a:solidFill>
                <a:latin typeface="Century Gothic"/>
              </a:rPr>
              <a:t>Куракинская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0000"/>
                </a:solidFill>
                <a:latin typeface="Century Gothic"/>
              </a:rPr>
              <a:t>СОШ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0000"/>
                </a:solidFill>
                <a:latin typeface="Century Gothic"/>
              </a:rPr>
              <a:t>2012.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each-shzz.narod.ru/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477b2"/>
                </a:solidFill>
                <a:latin typeface="Book Antiqua"/>
              </a:rPr>
              <a:t>ПРИМЕРЫ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820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477b2"/>
                </a:solidFill>
                <a:latin typeface="Book Antiqua"/>
              </a:rPr>
              <a:t>ПРИМЕРЫ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50920" y="1611360"/>
            <a:ext cx="86659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477b2"/>
                </a:solidFill>
                <a:latin typeface="Book Antiqua"/>
              </a:rPr>
              <a:t>КОНТРОЛЬНЫЕ</a:t>
            </a:r>
            <a:r>
              <a:rPr b="0" i="1" lang="ru-RU" sz="3500" spc="-1" strike="noStrike">
                <a:solidFill>
                  <a:srgbClr val="3477b2"/>
                </a:solidFill>
                <a:latin typeface="Book Antiqua"/>
              </a:rPr>
              <a:t> </a:t>
            </a:r>
            <a:r>
              <a:rPr b="1" lang="ru-RU" sz="3500" spc="-1" strike="noStrike">
                <a:solidFill>
                  <a:srgbClr val="3477b2"/>
                </a:solidFill>
                <a:latin typeface="Book Antiqua"/>
              </a:rPr>
              <a:t>ВОПРОСЫ.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Чем будет</a:t>
            </a:r>
            <a:r>
              <a:rPr b="0" i="1" lang="ru-RU" sz="2400" spc="-1" strike="noStrike">
                <a:solidFill>
                  <a:srgbClr val="242852"/>
                </a:solidFill>
                <a:latin typeface="Century Gothic"/>
              </a:rPr>
              <a:t> отличаться упрощенная логическая схема двухъядерно-</a:t>
            </a: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го процессора от упрощенной логической схемы одноядерного процессора?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Опишите технологию</a:t>
            </a:r>
            <a:r>
              <a:rPr b="0" i="1" lang="ru-RU" sz="2400" spc="-1" strike="noStrike">
                <a:solidFill>
                  <a:srgbClr val="242852"/>
                </a:solidFill>
                <a:latin typeface="Century Gothic"/>
              </a:rPr>
              <a:t> производства процессоров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Какие факторы влияют на производительность процессоров и как можно ее увеличить?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423" name="Рисунок 1" descr="Описание: C:\WINDOWS\Temp\FineReader10\media\image1.png"/>
          <p:cNvPicPr/>
          <p:nvPr/>
        </p:nvPicPr>
        <p:blipFill>
          <a:blip r:embed="rId1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477b2"/>
                </a:solidFill>
                <a:latin typeface="Book Antiqua"/>
              </a:rPr>
              <a:t>КОМПЬЮТЕРНЫЙ ПРАКТИКУМ.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С помощью программы тестирования компьютера </a:t>
            </a:r>
            <a:r>
              <a:rPr b="1" lang="en-US" sz="2000" spc="-1" strike="noStrike">
                <a:solidFill>
                  <a:srgbClr val="242852"/>
                </a:solidFill>
                <a:latin typeface="Century Gothic"/>
              </a:rPr>
              <a:t>CPU-Z</a:t>
            </a:r>
            <a:r>
              <a:rPr b="0" lang="en-US" sz="20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выполнить практическое задание </a:t>
            </a:r>
            <a:r>
              <a:rPr b="1" lang="ru-RU" sz="2000" spc="-1" strike="noStrike">
                <a:solidFill>
                  <a:srgbClr val="242852"/>
                </a:solidFill>
                <a:latin typeface="Century Gothic"/>
              </a:rPr>
              <a:t>«Определение объемов кэш-памяти процессора»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С помощью программы тестирования компьютера </a:t>
            </a:r>
            <a:r>
              <a:rPr b="1" lang="en-US" sz="2000" spc="-1" strike="noStrike">
                <a:solidFill>
                  <a:srgbClr val="242852"/>
                </a:solidFill>
                <a:latin typeface="Century Gothic"/>
              </a:rPr>
              <a:t>SIV</a:t>
            </a:r>
            <a:r>
              <a:rPr b="0" lang="en-US" sz="20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выполнить практическое задание </a:t>
            </a:r>
            <a:r>
              <a:rPr b="1" lang="ru-RU" sz="2000" spc="-1" strike="noStrike">
                <a:solidFill>
                  <a:srgbClr val="242852"/>
                </a:solidFill>
                <a:latin typeface="Century Gothic"/>
              </a:rPr>
              <a:t>«Определение температуры процессора»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С помощью программы тестирования компьютера</a:t>
            </a:r>
            <a:r>
              <a:rPr b="1" lang="ru-RU" sz="20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242852"/>
                </a:solidFill>
                <a:latin typeface="Century Gothic"/>
              </a:rPr>
              <a:t>SiSoft Sandra</a:t>
            </a:r>
            <a:r>
              <a:rPr b="0" lang="en-US" sz="20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выполнить практическое задание </a:t>
            </a:r>
            <a:r>
              <a:rPr b="1" lang="ru-RU" sz="2000" spc="-1" strike="noStrike">
                <a:solidFill>
                  <a:srgbClr val="242852"/>
                </a:solidFill>
                <a:latin typeface="Century Gothic"/>
              </a:rPr>
              <a:t>«Производительность процессора»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Ознакомиться с историей развития процессоров</a:t>
            </a:r>
            <a:r>
              <a:rPr b="0" lang="ru-RU" sz="1800" spc="-1" strike="noStrike">
                <a:solidFill>
                  <a:srgbClr val="242852"/>
                </a:solidFill>
                <a:latin typeface="Century Gothic"/>
              </a:rPr>
              <a:t> музея фирмы </a:t>
            </a:r>
            <a:r>
              <a:rPr b="0" lang="en-US" sz="1800" spc="-1" strike="noStrike">
                <a:solidFill>
                  <a:srgbClr val="242852"/>
                </a:solidFill>
                <a:latin typeface="Century Gothic"/>
              </a:rPr>
              <a:t>Intel</a:t>
            </a:r>
            <a:r>
              <a:rPr b="0" lang="ru-RU" sz="1800" spc="-1" strike="noStrike">
                <a:solidFill>
                  <a:srgbClr val="242852"/>
                </a:solidFill>
                <a:latin typeface="Century Gothic"/>
              </a:rPr>
              <a:t>. </a:t>
            </a:r>
            <a:r>
              <a:rPr b="0" lang="en-US" sz="1800" spc="-1" strike="noStrike">
                <a:solidFill>
                  <a:srgbClr val="242852"/>
                </a:solidFill>
                <a:latin typeface="Century Gothic"/>
              </a:rPr>
              <a:t>http://www.intel.ru</a:t>
            </a:r>
            <a:endParaRPr b="0" lang="en-US" sz="18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Инструкция выполнения практикума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426" name="Рисунок 1" descr="Описание: C:\WINDOWS\Temp\FineReader10\media\image1.png"/>
          <p:cNvPicPr/>
          <p:nvPr/>
        </p:nvPicPr>
        <p:blipFill>
          <a:blip r:embed="rId1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477b2"/>
                </a:solidFill>
                <a:latin typeface="Book Antiqua"/>
              </a:rPr>
              <a:t>ЦЕНТРАЛЬНЫЙ ПРОЦЕССОР 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5905440" cy="1441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42852"/>
                </a:solidFill>
                <a:latin typeface="Century Gothic"/>
              </a:rPr>
              <a:t>Центральный процессор </a:t>
            </a: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(ЦП, ЦПУ, CPU) выполняет команды программы, которая хранится в оперативной памяти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88" name="Picture 9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palomino-mobile_small"/>
          <p:cNvPicPr/>
          <p:nvPr/>
        </p:nvPicPr>
        <p:blipFill>
          <a:blip r:embed="rId2"/>
          <a:stretch/>
        </p:blipFill>
        <p:spPr>
          <a:xfrm>
            <a:off x="3938760" y="4221000"/>
            <a:ext cx="2927160" cy="2189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"/>
          <p:cNvPicPr/>
          <p:nvPr/>
        </p:nvPicPr>
        <p:blipFill>
          <a:blip r:embed="rId3"/>
          <a:stretch/>
        </p:blipFill>
        <p:spPr>
          <a:xfrm>
            <a:off x="303120" y="378936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" descr="Описание: C:\WINDOWS\Temp\FineReader10\media\image1.png"/>
          <p:cNvPicPr/>
          <p:nvPr/>
        </p:nvPicPr>
        <p:blipFill>
          <a:blip r:embed="rId4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77b2"/>
                </a:solidFill>
                <a:latin typeface="Book Antiqua"/>
              </a:rPr>
              <a:t>ЛОГИЧЕСКАЯ СХЕМА ПРОЦЕССОРА</a:t>
            </a:r>
            <a:endParaRPr b="0" lang="en-US" sz="32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18960" y="1844640"/>
            <a:ext cx="8501040" cy="4464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94" name="Рисунок 1" descr="Описание: C:\WINDOWS\Temp\FineReader10\media\image1.png"/>
          <p:cNvPicPr/>
          <p:nvPr/>
        </p:nvPicPr>
        <p:blipFill>
          <a:blip r:embed="rId1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642960" y="1700280"/>
            <a:ext cx="73404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77b2"/>
                </a:solidFill>
                <a:latin typeface="Book Antiqua"/>
              </a:rPr>
              <a:t>ЛОГИЧЕСКАЯ СХЕМА ПРОЦЕССОРА</a:t>
            </a:r>
            <a:endParaRPr b="0" lang="en-US" sz="32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Команда программы поступает в процессор по шине данных и декодируется, т. е. определяется, какие действия необходимо выполнить и какие данные для этого требуются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Данные запрашиваются из оперативной памяти, для этого по шине адреса передаются их адреса, а по шине управления — сигнал на считывание. Считанные данные передаются в процессор по шине данных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Декодированная команда и данные передаются в АЛУ (арифметико-логическое устройство), где отдельно обрабатываются целочисленные данные, и отдельно — данные в форме чисел с плавающей запятой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Результаты обработки передаются по шине данных в оперативную память, одновременно по шине адреса передаются адреса ячеек памяти, куда данные необходимо записать, а по шине управления передается сигнал на запись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98" name="Рисунок 1" descr="Описание: C:\WINDOWS\Temp\FineReader10\media\image1.png"/>
          <p:cNvPicPr/>
          <p:nvPr/>
        </p:nvPicPr>
        <p:blipFill>
          <a:blip r:embed="rId1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77b2"/>
                </a:solidFill>
                <a:latin typeface="Book Antiqua"/>
              </a:rPr>
              <a:t>ЛОГИЧЕСКАЯ СХЕМА ПРОЦЕССОРА</a:t>
            </a:r>
            <a:endParaRPr b="0" lang="en-US" sz="32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Быстродействие процессора существенно больше быстродействия оперативной памяти, поэтому процессор часть времени простаивает в ожидании данных. Чтобы этого не происходило, в современные процессоры встроена более быстрая, чем оперативная, кэш-память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Кэш-память разделена на два уровня: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В кэш-память 2-го уровня (большую по объему и менее быстродействующую) считывается из оперативной памяти очередная порция команд и данных. 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Кэш-память 1-го уровня (меньшая по объему, но более быстродействующая) разделена на две части, в одну часть считываются наиболее нужные процессору данные, а в другую часть — наиболее нужные процессору команды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401" name="Рисунок 1" descr="Описание: C:\WINDOWS\Temp\FineReader10\media\image1.png"/>
          <p:cNvPicPr/>
          <p:nvPr/>
        </p:nvPicPr>
        <p:blipFill>
          <a:blip r:embed="rId1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477b2"/>
                </a:solidFill>
                <a:latin typeface="Book Antiqua"/>
              </a:rPr>
              <a:t>ЦЕНТРАЛЬНЫЙ ПРОЦЕССОР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1800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2852"/>
                </a:solidFill>
                <a:latin typeface="Century Gothic"/>
              </a:rPr>
              <a:t>В первых компьютерах процессоры были громоздкими агрегатами</a:t>
            </a: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, занимавшими целые шкафы и даже комнаты, и были выполнены на большом количестве отдельных компонентов. 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2852"/>
                </a:solidFill>
                <a:latin typeface="Century Gothic"/>
              </a:rPr>
              <a:t>С начала 70-х годов ХХ века все необходимые компоненты ЦП размещают в одной полупроводниковой микросхеме  -  БИС или СБИС </a:t>
            </a: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(больших или сверхбольших интегральных схемах), 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2852"/>
                </a:solidFill>
                <a:latin typeface="Century Gothic"/>
              </a:rPr>
              <a:t>БИС - плоская полупроводниковая пластина размером примерно 20х20 мм, заключенная в плоский корпус с рядами металлических штырьков (контактов). 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259"/>
                </a:solidFill>
                <a:latin typeface="Century Gothic"/>
              </a:rPr>
              <a:t>Например,</a:t>
            </a:r>
            <a:r>
              <a:rPr b="1" i="1" lang="ru-RU" sz="2000" spc="-1" strike="noStrike">
                <a:solidFill>
                  <a:srgbClr val="2b5259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2b5259"/>
                </a:solidFill>
                <a:latin typeface="Century Gothic"/>
              </a:rPr>
              <a:t>процессор Intel Core 2 Duo с 4 МБ кэш-памятью состоит из около 291 миллиона функциональных элементов, размеры которых составляют всего около 0.13 микрон (1 микрон = 10</a:t>
            </a:r>
            <a:r>
              <a:rPr b="0" lang="ru-RU" sz="2000" spc="-1" strike="noStrike" baseline="30000">
                <a:solidFill>
                  <a:srgbClr val="2b5259"/>
                </a:solidFill>
                <a:latin typeface="Century Gothic"/>
              </a:rPr>
              <a:t>-6</a:t>
            </a:r>
            <a:r>
              <a:rPr b="0" lang="ru-RU" sz="2000" spc="-1" strike="noStrike">
                <a:solidFill>
                  <a:srgbClr val="2b5259"/>
                </a:solidFill>
                <a:latin typeface="Century Gothic"/>
              </a:rPr>
              <a:t> м)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b5259"/>
                </a:solidFill>
                <a:latin typeface="Century Gothic"/>
              </a:rPr>
              <a:t>Дополнительно: технология создания ЦП.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7435800" y="0"/>
            <a:ext cx="1629000" cy="1628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" descr="Описание: C:\WINDOWS\Temp\FineReader10\media\image1.png"/>
          <p:cNvPicPr/>
          <p:nvPr/>
        </p:nvPicPr>
        <p:blipFill>
          <a:blip r:embed="rId2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77b2"/>
                </a:solidFill>
                <a:latin typeface="Book Antiqua"/>
              </a:rPr>
              <a:t>ПРОИЗВОДИТЕЛЬНОСТЬ  ПРОЦЕССОРА</a:t>
            </a:r>
            <a:endParaRPr b="0" lang="en-US" sz="32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852"/>
                </a:solidFill>
                <a:latin typeface="Century Gothic"/>
              </a:rPr>
              <a:t>Производительность процессора </a:t>
            </a: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является его интегральной характеристикой и</a:t>
            </a:r>
            <a:r>
              <a:rPr b="1" lang="ru-RU" sz="2400" spc="-1" strike="noStrike">
                <a:solidFill>
                  <a:srgbClr val="242852"/>
                </a:solidFill>
                <a:latin typeface="Century Gothic"/>
              </a:rPr>
              <a:t> характеризует скорость выполнения приложений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259"/>
                </a:solidFill>
                <a:latin typeface="Century Gothic"/>
              </a:rPr>
              <a:t>Производительность процессора прямо пропорциональна разрядности процессора, его </a:t>
            </a:r>
            <a:r>
              <a:rPr b="0" i="1" lang="ru-RU" sz="2400" spc="-1" strike="noStrike">
                <a:solidFill>
                  <a:srgbClr val="2b5259"/>
                </a:solidFill>
                <a:latin typeface="Century Gothic"/>
              </a:rPr>
              <a:t>частоте</a:t>
            </a:r>
            <a:r>
              <a:rPr b="0" lang="ru-RU" sz="2400" spc="-1" strike="noStrike">
                <a:solidFill>
                  <a:srgbClr val="2b5259"/>
                </a:solidFill>
                <a:latin typeface="Century Gothic"/>
              </a:rPr>
              <a:t>, а также количеству команд,</a:t>
            </a:r>
            <a:r>
              <a:rPr b="0" i="1" lang="ru-RU" sz="2400" spc="-1" strike="noStrike">
                <a:solidFill>
                  <a:srgbClr val="2b5259"/>
                </a:solidFill>
                <a:latin typeface="Century Gothic"/>
              </a:rPr>
              <a:t> выполняемых</a:t>
            </a:r>
            <a:r>
              <a:rPr b="0" lang="ru-RU" sz="2400" spc="-1" strike="noStrike">
                <a:solidFill>
                  <a:srgbClr val="2b5259"/>
                </a:solidFill>
                <a:latin typeface="Century Gothic"/>
              </a:rPr>
              <a:t> за один такт: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5259"/>
                </a:solidFill>
                <a:latin typeface="Century Gothic"/>
              </a:rPr>
              <a:t>Производительность ~ Разрядность х Частота х  Кол-во команд за такт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408" name="Рисунок 1" descr="Описание: C:\WINDOWS\Temp\FineReader10\media\image1.png"/>
          <p:cNvPicPr/>
          <p:nvPr/>
        </p:nvPicPr>
        <p:blipFill>
          <a:blip r:embed="rId1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477b2"/>
                </a:solidFill>
                <a:latin typeface="Book Antiqua"/>
              </a:rPr>
              <a:t>РАЗРЯДНОСТЬ ПРОЦЕССОРА.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852"/>
                </a:solidFill>
                <a:latin typeface="Century Gothic"/>
              </a:rPr>
              <a:t>Разрядность процессора определяется количеством двоичных разрядов, которые процессор обрабатывает за один такт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С момента появления первого процессора 4004 (за 35 лет</a:t>
            </a:r>
            <a:r>
              <a:rPr b="1" lang="ru-RU" sz="2400" spc="-1" strike="noStrike">
                <a:solidFill>
                  <a:srgbClr val="242852"/>
                </a:solidFill>
                <a:latin typeface="Century Gothic"/>
              </a:rPr>
              <a:t>) разрядность процессоров увеличилась в 16 раз</a:t>
            </a: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 (</a:t>
            </a:r>
            <a:r>
              <a:rPr b="1" lang="ru-RU" sz="2400" spc="-1" strike="noStrike">
                <a:solidFill>
                  <a:srgbClr val="242852"/>
                </a:solidFill>
                <a:latin typeface="Century Gothic"/>
              </a:rPr>
              <a:t>с 4 битов до 64 битов</a:t>
            </a: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)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259"/>
                </a:solidFill>
                <a:latin typeface="Century Gothic"/>
              </a:rPr>
              <a:t>Однако в настоящее время увеличение разрядности процессоров практически нецелесообразно, так как только сейчас происходит переход от 32-битовых операционных систем и приложений к 64-битовым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411" name="Рисунок 1" descr="Описание: C:\WINDOWS\Temp\FineReader10\media\image1.png"/>
          <p:cNvPicPr/>
          <p:nvPr/>
        </p:nvPicPr>
        <p:blipFill>
          <a:blip r:embed="rId1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477b2"/>
                </a:solidFill>
                <a:latin typeface="Book Antiqua"/>
              </a:rPr>
              <a:t>ЧАСТОТА ПРОЦЕССОРА.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852"/>
                </a:solidFill>
                <a:latin typeface="Century Gothic"/>
              </a:rPr>
              <a:t>Частота соответствует количеству тактов обработки данных, которые процессор производит за 1 секунду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С</a:t>
            </a:r>
            <a:r>
              <a:rPr b="0" i="1" lang="ru-RU" sz="2400" spc="-1" strike="noStrike">
                <a:solidFill>
                  <a:srgbClr val="242852"/>
                </a:solidFill>
                <a:latin typeface="Century Gothic"/>
              </a:rPr>
              <a:t> момента </a:t>
            </a:r>
            <a:r>
              <a:rPr b="0" lang="ru-RU" sz="2400" spc="-1" strike="noStrike">
                <a:solidFill>
                  <a:srgbClr val="242852"/>
                </a:solidFill>
                <a:latin typeface="Century Gothic"/>
              </a:rPr>
              <a:t>появления первого процессора </a:t>
            </a:r>
            <a:r>
              <a:rPr b="1" lang="ru-RU" sz="2400" spc="-1" strike="noStrike">
                <a:solidFill>
                  <a:srgbClr val="242852"/>
                </a:solidFill>
                <a:latin typeface="Century Gothic"/>
              </a:rPr>
              <a:t>частота процессоров увеличилась в 37 ООО раз (с 0,1 МГц до 3700 МГц)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259"/>
                </a:solidFill>
                <a:latin typeface="Century Gothic"/>
              </a:rPr>
              <a:t>Однако увеличение производительности процессоров за счет увеличения частоты имеет свой предел из-за тепловыделения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414" name="Рисунок 1" descr="Описание: C:\WINDOWS\Temp\FineReader10\media\image1.png"/>
          <p:cNvPicPr/>
          <p:nvPr/>
        </p:nvPicPr>
        <p:blipFill>
          <a:blip r:embed="rId1"/>
          <a:stretch/>
        </p:blipFill>
        <p:spPr>
          <a:xfrm>
            <a:off x="0" y="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9-17T12:57:35Z</dcterms:modified>
  <cp:revision>19</cp:revision>
  <dc:subject/>
  <dc:title>Презентация PowerPoint</dc:title>
</cp:coreProperties>
</file>